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1A3B7-FA60-4D60-85D5-2B9BF9EDC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046A6-A222-4FB1-A9DA-BA89273DA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E6F342E-DFCA-4DE2-98A5-2853E6BAC01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9C17F5C-C0BC-44C2-81DB-687A2FD8191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35763D5-6D12-4011-8D0C-8DD3269BC74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4F16C8-2B74-42E7-B874-8D5119A620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A33B9A2-D0C6-49FB-90AA-964404DE47A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88F5526-01D8-48D8-915D-C0DA546E5B2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3F38433-5B15-4103-BDA3-39EE5E5DE2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8B6E30A-62FC-4DD7-9970-424E7042BC9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31D7BC6-153C-49A5-B4C4-2D400932848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C604C76-8B0F-4F71-8361-C6240AB0B2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7261E-F894-4393-83DF-80D81C27E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D4EDF27-8752-4AAD-8EDC-2547212F6E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512AE43-432F-4D96-AE46-EFAF5A455C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1A8057A-BE46-46F2-90CA-F9D4483D7A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6699B3A-364D-40BA-9D3C-89003CBCF2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431C0FC-422E-4F62-9BDB-F8B0366708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577898F-02F3-42B7-A467-4E4F77553C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7D22D02-78E9-4F67-89AC-7D3B57EBAF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0E9E044-3D60-4470-A3E9-B599EA029B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398743E-8D40-4198-9043-BC123DBB6C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538C2F1-8580-42AB-A784-66CBA9EC23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429E4-E1B0-482D-9C21-CC1F948BC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3631C96-A0C9-49B2-AC2F-DDF7E53C99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41384A-1574-4706-8527-2FBEC56D61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99751A-0097-45EC-9C6D-4657B9DFF8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F0B145-B801-410C-8905-075037A0E7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C99B98-3541-4809-A1A8-F52F04446A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4EDBBC-5F0F-4A45-9FC5-F1F0F53BE4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F58420-F9F5-4372-87C7-1299A76D45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1D397F-FCCD-40F8-9831-4B0EFD4CA6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05241F-B88F-45C4-B05F-F7E8AE6425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39A500-3402-4477-98EB-6CC1412476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9A334-89E6-4E99-921F-EA912D450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2A37C8-7E1D-4565-93AD-9A17B8B824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B2A39C-645F-47CB-917F-1F33E369E3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367C43-717D-4B93-80A6-1BC193C018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7EEA957-294B-456C-AED7-AC27C22F72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55DEDC7-1117-4B11-AED3-09EB034838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329352F-7495-4755-96B3-42B9BF686E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B6B73EA-F19F-4454-BE6E-9226FD40AA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BCF9799-D02A-4D1A-87D6-6CE9FAE6B7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4F77A92-809B-47A4-B040-BBED8D1AD1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907D518-3187-44A4-B8FD-A2D6DB2ADA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747D9-A9C7-4421-9868-2DDC87E30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F00CB37-214C-4435-ADFB-BC841E920A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478A072-8772-4F6B-84D7-98CF613192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774CBA1-B9D1-4DAF-9C23-6ECCF9F8B0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A52E34F-55C8-431B-9CCB-FA4177AAC7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19BEF12-E82B-4A3D-8021-0E56BFAB16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9CF29-C6F0-49F4-9423-ED98D24CB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320C3-3E15-4504-8F66-662F6E7AE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0025F-3F1F-4331-B992-A8C66E431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D86B3-C5B0-4393-8288-21AA3307F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363BA-CC93-4B44-8CE0-9AB69152B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9B539-43E7-404C-B190-A7B8A4CFE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CCC61-F125-4166-A919-DC95EE33D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457B4-23BF-4C03-BF38-2E1BCD0B9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F87AB-39F0-4BFD-949C-800585A1D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A5332-96EC-481F-9685-0466C4FCE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696E2-C2FF-4296-8A3E-CD70142D3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734427-D8D2-4FAF-9132-A75A424D26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D6606-729A-4A67-A05D-77602D031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5FB98-FE7E-4407-A1DE-B1423ADCF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1E3F26-812D-4A4A-A4AB-6C0B04C36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3C5006-7DFB-4E14-93D3-09B51C12E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B662F-6586-4D02-8175-12EBA412F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188BD-F323-4CF0-AEE8-0F5CBEBEF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21F53-BFBA-482A-94AF-DDF38491E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68C0E-2127-4254-A9AE-0019F81BA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018C4-62E5-45EC-86A3-0FB9EC4FF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2D035B-9DEC-47ED-BD7F-18726E5470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0F2FC5-8A4A-420A-9885-6BB9D80F0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61CBEC-146B-485F-9935-CA258BC696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B5F3B03-F465-4A1E-A474-58044AF0346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1394D77-7B88-4FFA-AD3F-6340559AFD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5B7ADBD-B9F3-4C42-84B5-9579565E7AF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BDE89-0D3A-4F03-BE61-802C2089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563379B-7689-4ED4-A32D-85F8663D51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6AA07AE-92CD-4943-85E2-5CC77BD271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A0C70FC-967B-4D98-AEB2-86116147E2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57F89CB-EF4D-4170-9C1D-BF0469CDB3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99B03F9-147F-4662-9272-8C8569DE44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86BD662-34F8-4985-98F7-8EC95BFF71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AD7F616-5858-41F2-8972-54B3C888994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F2CA334-C0A5-46D2-8EE3-14B69FC058D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EF61ABD-2270-4FDE-AA20-6E9E0324A93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776645-A429-4940-A388-AF9A8351EF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C87ED-2256-4058-8BAA-F90EA7149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259A8-587B-4BC7-B1B6-6F3EB457A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B17CD1-99AC-4407-983D-4E999E5B5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0276C-136B-4A86-ABC8-036CE5C96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C7F3A4-CEC4-4BA6-A1E7-DC80D6266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93882E-C278-40CB-A78F-C38F3E7FE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508808-77C8-43C3-B099-07580278A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118BA-9FC4-4936-AC65-2C112FCE9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A76E7-11F8-4622-97A6-D3D0BFBA5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4ABDF0-D8AC-4CB1-B563-5C1D7724D9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577E11-D6E9-4008-A605-C92932C121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6DE66-1808-4E3A-9F34-238004613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E83A81-024C-42D0-B877-91E62E57DF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A0D2DF-8576-4844-902B-8BE6A459FC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DF9C5-F907-4EF4-86CF-18B79AED4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B1AA1-6683-4D2A-A01C-61BAF0BDCB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E198B-5758-46B0-B8C1-4DE4BE500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E1715-F90C-4125-98A9-196613C6DF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E8964D-445D-46B5-BA12-28F0FE76D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D3734-C438-445D-BAB8-2D8707AFB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A3E33-256B-4240-9E06-3647C5C574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7F57F-95F8-4CE2-B660-1171939BF7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5882-AE81-424C-881A-2E98C0317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02DBF4-7381-4FE7-9AAA-AA6419F632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9DF1E3-DEA4-402E-B15E-8697A0DC2F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69B5FB-A2F9-4B83-B925-27BB19F1AD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77F5D6-E832-47A1-B6F3-D47416062F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EF8C57-26DD-4B82-B218-C468DE0A0A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C0FDB-BDB2-4739-90CA-32F39D277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A5D6B2-8519-4471-AD38-D21C19F86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22CF2B-115C-4ED4-B470-F2AF863F23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1168C6-CACA-4108-8A16-F9A81B91D7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8E9E3-1308-4DE4-B29F-F7037E7E8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16E97-973E-43EF-8DE6-0FB3B7865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82226-84EB-4514-BACD-74AF722FE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888C7C-C940-4C1D-9878-0DB4EF2BB6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B02FA0-A97D-4D3C-A4C8-5F143A5AF0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58DE26-EF5D-4DD5-88DB-E797DAABCA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C77D3B-DFB8-4E38-870B-070B41B141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31AAAB-CE75-471F-8146-DBA6CE3B92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676A68-5A8E-4387-80E0-3405927BF3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F1A03-B0DD-4762-874F-D58F2A498E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AF487-F35E-42E4-9ED4-6920B72CE5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B7A738-C783-4B62-B1C6-6527BBD5C1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3516C-CE6E-4BD0-9599-85AD276DA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5B7020-5E76-41F5-ACBE-7C44A1ECC9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2EE4E4-7DD0-4B21-82FD-D615126F9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39B4A4-B657-495E-A7A6-BDDA6CD9A3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4C2D3-901D-445B-8364-BE5787838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A417BA-6BAA-4590-8D00-0CA0626AB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8CD9B2-6D5E-424E-96B9-1F8197AB05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5BB49F-9DF0-4093-B7CA-08C5F8A5B3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A6103BC-1800-42F6-A481-DF8B8ECDD9D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A6CFB33-D847-469B-9E00-125B903710D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D308CE6-B0CC-4241-8147-7AA9BA8039D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07F89-A9FD-4726-BD81-6161C53D5066}"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03A0A-1C16-4106-8FD3-75CD7CAC59A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35D9E-89B6-4A14-85DD-AA9B5C4BD04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AAE73-697A-44CE-B903-5AA813B142FE}"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AEB3C-F6B4-432B-85D1-F718A143CF39}"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49364-EEC1-4C9A-B5B5-292BDA100BF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D3346-C2A5-45D8-81DC-FE82FC3C6A3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307D0-B9FA-469D-9C62-1815B21FF6BF}"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9615D-E57C-4192-BCE2-A1A00DE11CCE}"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BA3B5-413E-45A4-8CA2-DFB350EFA04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8FFED-F0AF-4BB3-BF0D-130B8D94BE23}"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2D081-22B4-4629-B059-CA907BCD5B7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CE064-315A-45E2-88A9-389CD4069E95}"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8DDBB-4D49-493E-BD43-85B7340575B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B8839-DFD0-452C-8F67-C609B0E3DA31}"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B10DF-88C5-4AD5-AD95-FC0E47A6692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9D872-3FE4-45B9-A116-F7AECECFF301}"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1BFA8-AE37-45DC-A83B-E68453D588E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86A0C-CCD5-4B7B-91DD-88C904C1F0EC}"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68235-42AA-4D06-916E-EEE9B7D1D87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AC38F-0DC5-4829-A33E-E58A1893359E}"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66E21-7025-4976-81F6-48FE30E2A186}"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D1C33-029B-444E-980F-F1ED285AF4E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5CD2F-5BA3-4231-AB7F-04DAECB9086F}"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pic>
        <p:nvPicPr>
          <p:cNvPr id="606" name="Picture 3" descr=""/>
          <p:cNvPicPr/>
          <p:nvPr/>
        </p:nvPicPr>
        <p:blipFill>
          <a:blip r:embed="rId1"/>
          <a:stretch/>
        </p:blipFill>
        <p:spPr>
          <a:xfrm>
            <a:off x="3809880" y="3484440"/>
            <a:ext cx="1322640" cy="2175120"/>
          </a:xfrm>
          <a:prstGeom prst="rect">
            <a:avLst/>
          </a:prstGeom>
          <a:ln w="0">
            <a:noFill/>
          </a:ln>
        </p:spPr>
      </p:pic>
      <p:sp>
        <p:nvSpPr>
          <p:cNvPr id="607"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ALEXANDER JACOBS</a:t>
            </a:r>
            <a:endParaRPr b="0" lang="en-US" sz="1600" spc="-1" strike="noStrike">
              <a:solidFill>
                <a:srgbClr val="000000"/>
              </a:solidFill>
              <a:latin typeface="Georgia"/>
            </a:endParaRPr>
          </a:p>
        </p:txBody>
      </p:sp>
      <p:sp>
        <p:nvSpPr>
          <p:cNvPr id="608"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hematic Book Report on Number the Stars </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pic>
        <p:nvPicPr>
          <p:cNvPr id="609" name="Picture 3" descr=""/>
          <p:cNvPicPr/>
          <p:nvPr/>
        </p:nvPicPr>
        <p:blipFill>
          <a:blip r:embed="rId1">
            <a:lum bright="18000"/>
          </a:blip>
          <a:stretch/>
        </p:blipFill>
        <p:spPr>
          <a:xfrm>
            <a:off x="1752480" y="228600"/>
            <a:ext cx="5257800" cy="6093000"/>
          </a:xfrm>
          <a:prstGeom prst="rect">
            <a:avLst/>
          </a:prstGeom>
          <a:ln w="0">
            <a:noFill/>
          </a:ln>
        </p:spPr>
      </p:pic>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eorgia"/>
              </a:rPr>
              <a:t>Author: Lois Lowery</a:t>
            </a:r>
            <a:endParaRPr b="0" lang="en-US" sz="3300" spc="-1" strike="noStrike">
              <a:solidFill>
                <a:srgbClr val="7b9899"/>
              </a:solidFill>
              <a:latin typeface="Georgia"/>
            </a:endParaRPr>
          </a:p>
        </p:txBody>
      </p:sp>
      <p:pic>
        <p:nvPicPr>
          <p:cNvPr id="611" name="Content Placeholder 2" descr=""/>
          <p:cNvPicPr/>
          <p:nvPr/>
        </p:nvPicPr>
        <p:blipFill>
          <a:blip r:embed="rId2"/>
          <a:stretch/>
        </p:blipFill>
        <p:spPr>
          <a:xfrm>
            <a:off x="298440" y="1523880"/>
            <a:ext cx="8510760" cy="457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flict and Plot of Number the Stars</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book Number the Stars takes place in Copenhagen, Denmark in 1943. Annemarie Johansen, is protecting her best friend Ellen Rosen, a Jew, from the Nazis. Annemarie’s family, and her best friend Ellen, all move to Annemarie's Uncle Henrik’s house because of the suspicion by the Nazis that Ellen isn’t part of their family. She is pretending to be Lise Johansen, Annemarie's dead older sister. Can they keep her safe? This story is a lesson to stand up for your love ones, and to care for the ones that matter the mos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4" name=""/>
          <p:cNvSpPr/>
          <p:nvPr/>
        </p:nvSpPr>
        <p:spPr>
          <a:xfrm>
            <a:off x="4065480" y="46980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in Characters</a:t>
            </a:r>
            <a:endParaRPr b="0" lang="en-US" sz="1800" spc="-1" strike="noStrike">
              <a:solidFill>
                <a:srgbClr val="000000"/>
              </a:solidFill>
              <a:latin typeface="Arial"/>
            </a:endParaRPr>
          </a:p>
        </p:txBody>
      </p:sp>
      <p:sp>
        <p:nvSpPr>
          <p:cNvPr id="615" name=""/>
          <p:cNvSpPr/>
          <p:nvPr/>
        </p:nvSpPr>
        <p:spPr>
          <a:xfrm>
            <a:off x="1295280" y="1547640"/>
            <a:ext cx="6400800" cy="6677640"/>
          </a:xfrm>
          <a:prstGeom prst="rect">
            <a:avLst/>
          </a:prstGeom>
          <a:noFill/>
          <a:ln w="0">
            <a:noFill/>
          </a:ln>
        </p:spPr>
        <p:style>
          <a:lnRef idx="0"/>
          <a:fillRef idx="0"/>
          <a:effectRef idx="0"/>
          <a:fontRef idx="minor"/>
        </p:style>
        <p:txBody>
          <a:bodyPr lIns="90000" rIns="90000" tIns="46800" bIns="46800" anchor="t">
            <a:spAutoFit/>
          </a:bodyPr>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Ellen Rosen- friend of the Johansons.</a:t>
            </a: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nnemarie Johansen</a:t>
            </a: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Kirsti Johanson</a:t>
            </a: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Mom</a:t>
            </a: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D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d16349"/>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
          <p:cNvSpPr/>
          <p:nvPr/>
        </p:nvSpPr>
        <p:spPr>
          <a:xfrm>
            <a:off x="2712960" y="2068560"/>
            <a:ext cx="639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pic>
        <p:nvPicPr>
          <p:cNvPr id="617" name="Picture 4" descr=""/>
          <p:cNvPicPr/>
          <p:nvPr/>
        </p:nvPicPr>
        <p:blipFill>
          <a:blip r:embed="rId1"/>
          <a:stretch/>
        </p:blipFill>
        <p:spPr>
          <a:xfrm>
            <a:off x="808200" y="533520"/>
            <a:ext cx="7726320" cy="5943600"/>
          </a:xfrm>
          <a:prstGeom prst="rect">
            <a:avLst/>
          </a:prstGeom>
          <a:ln w="0">
            <a:noFill/>
          </a:ln>
        </p:spPr>
      </p:pic>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orld War 2</a:t>
            </a:r>
            <a:endParaRPr b="0" lang="en-US" sz="3300" spc="-1" strike="noStrike">
              <a:solidFill>
                <a:srgbClr val="7b9899"/>
              </a:solidFill>
              <a:latin typeface="Georgia"/>
            </a:endParaRPr>
          </a:p>
        </p:txBody>
      </p:sp>
      <p:pic>
        <p:nvPicPr>
          <p:cNvPr id="619" name="Content Placeholder 2" descr=""/>
          <p:cNvPicPr/>
          <p:nvPr/>
        </p:nvPicPr>
        <p:blipFill>
          <a:blip r:embed="rId2"/>
          <a:stretch/>
        </p:blipFill>
        <p:spPr>
          <a:xfrm>
            <a:off x="298440" y="1523880"/>
            <a:ext cx="8510760" cy="457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pic>
        <p:nvPicPr>
          <p:cNvPr id="620" name="Picture 3" descr=""/>
          <p:cNvPicPr/>
          <p:nvPr/>
        </p:nvPicPr>
        <p:blipFill>
          <a:blip r:embed="rId1"/>
          <a:stretch/>
        </p:blipFill>
        <p:spPr>
          <a:xfrm>
            <a:off x="838080" y="2216160"/>
            <a:ext cx="6651720" cy="388296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penhagen, Denmark</a:t>
            </a:r>
            <a:endParaRPr b="0" lang="en-US" sz="3300" spc="-1" strike="noStrike">
              <a:solidFill>
                <a:srgbClr val="7b9899"/>
              </a:solidFill>
              <a:latin typeface="Georgia"/>
            </a:endParaRPr>
          </a:p>
        </p:txBody>
      </p:sp>
      <p:pic>
        <p:nvPicPr>
          <p:cNvPr id="622" name="Content Placeholder 2" descr=""/>
          <p:cNvPicPr/>
          <p:nvPr/>
        </p:nvPicPr>
        <p:blipFill>
          <a:blip r:embed="rId2"/>
          <a:stretch/>
        </p:blipFill>
        <p:spPr>
          <a:xfrm>
            <a:off x="298440" y="1523880"/>
            <a:ext cx="8510760" cy="457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inks</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rPr>
              <a:t>http://en.</a:t>
            </a:r>
            <a:r>
              <a:rPr b="0" lang="en-US" sz="2700" spc="-1" strike="noStrike" u="sng">
                <a:solidFill>
                  <a:srgbClr val="00a3d6"/>
                </a:solidFill>
                <a:uFillTx/>
                <a:latin typeface="Georgia"/>
              </a:rPr>
              <a:t>wikipedia</a:t>
            </a:r>
            <a:r>
              <a:rPr b="0" lang="en-US" sz="2700" spc="-1" strike="noStrike" u="sng">
                <a:solidFill>
                  <a:srgbClr val="00a3d6"/>
                </a:solidFill>
                <a:uFillTx/>
                <a:latin typeface="Georgia"/>
              </a:rPr>
              <a:t>.</a:t>
            </a:r>
            <a:r>
              <a:rPr b="0" lang="en-US" sz="2700" spc="-1" strike="noStrike" u="sng">
                <a:solidFill>
                  <a:srgbClr val="00a3d6"/>
                </a:solidFill>
                <a:uFillTx/>
                <a:latin typeface="Georgia"/>
              </a:rPr>
              <a:t>org/wiki/World_War_I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rPr>
              <a:t>http://en.</a:t>
            </a:r>
            <a:r>
              <a:rPr b="0" lang="en-US" sz="2700" spc="-1" strike="noStrike" u="sng">
                <a:solidFill>
                  <a:srgbClr val="00a3d6"/>
                </a:solidFill>
                <a:uFillTx/>
                <a:latin typeface="Georgia"/>
              </a:rPr>
              <a:t>wikipedia</a:t>
            </a:r>
            <a:r>
              <a:rPr b="0" lang="en-US" sz="2700" spc="-1" strike="noStrike" u="sng">
                <a:solidFill>
                  <a:srgbClr val="00a3d6"/>
                </a:solidFill>
                <a:uFillTx/>
                <a:latin typeface="Georgia"/>
              </a:rPr>
              <a:t>.</a:t>
            </a:r>
            <a:r>
              <a:rPr b="0" lang="en-US" sz="2700" spc="-1" strike="noStrike" u="sng">
                <a:solidFill>
                  <a:srgbClr val="00a3d6"/>
                </a:solidFill>
                <a:uFillTx/>
                <a:latin typeface="Georgia"/>
              </a:rPr>
              <a:t>org/wiki/Copenhag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rPr>
              <a:t>http://www.</a:t>
            </a:r>
            <a:r>
              <a:rPr b="0" lang="en-US" sz="2700" spc="-1" strike="noStrike" u="sng">
                <a:solidFill>
                  <a:srgbClr val="00a3d6"/>
                </a:solidFill>
                <a:uFillTx/>
                <a:latin typeface="Georgia"/>
              </a:rPr>
              <a:t>loislowry</a:t>
            </a:r>
            <a:r>
              <a:rPr b="0" lang="en-US" sz="2700" spc="-1" strike="noStrike" u="sng">
                <a:solidFill>
                  <a:srgbClr val="00a3d6"/>
                </a:solidFill>
                <a:uFillTx/>
                <a:latin typeface="Georgia"/>
              </a:rPr>
              <a:t>.com/bio.htm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8:49:29Z</dcterms:created>
  <dc:creator>Alexander Jacobs</dc:creator>
  <dc:description/>
  <dc:language>en-US</dc:language>
  <cp:lastModifiedBy>USC/ISI</cp:lastModifiedBy>
  <dcterms:modified xsi:type="dcterms:W3CDTF">2009-11-17T19:12:53Z</dcterms:modified>
  <cp:revision>5</cp:revision>
  <dc:subject/>
  <dc:title>Thematic Book Report on Number the Stars </dc:title>
</cp:coreProperties>
</file>